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CD3-8615-496C-B07A-31C4F356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F8E-EC04-4995-8127-37C260CF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BAD-F4F9-4093-9B82-F1CAB5C9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BC2-24F6-45F0-BEDD-C50D50E2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771-FA2B-4CBF-95C1-3CFBD91E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279-CF4F-4E30-A34C-723AE72A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0B9-535B-4F4D-BD65-BEDC0DB4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B42-C60F-4FA2-A3B3-C2D2EF50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4ECF-9BBF-4125-AB69-FE4B5FAC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558-0D20-41FB-9FFF-8F0C7483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7A7-A8D4-471F-B549-F281EEFA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9CB-9D8D-4174-B961-90DB141A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CA7C-6B00-4C92-9AED-3D913791F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2075760"/>
            <a:ext cx="9147240" cy="11000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comic"/>
              </a:rPr>
              <a:t>2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1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бичам да приказвам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за вечните неща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на грешни да показвам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Спасителя Христа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Предметът на таз повест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е вечната любов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такъв предмет друг няма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тоз свят - ни стар, ни нов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3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6480"/>
            <a:ext cx="9144000" cy="66744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колко радост има</a:t>
            </a:r>
            <a:br>
              <a:rPr sz="4800"/>
            </a:b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таз повест най-любим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ткрива на все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Христовата любов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1735920"/>
            <a:ext cx="9210600" cy="10330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Таз повест ми е мила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най-истинна от вси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душа ми влива сила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И с радост я роси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За мене Той ще стори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най-чудните неща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Там всеки ще намери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безброй съкровища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1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150480"/>
            <a:ext cx="9144000" cy="7162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колко радост има</a:t>
            </a:r>
            <a:br>
              <a:rPr sz="4800"/>
            </a:b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таз повест най-любим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ткрива на все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Христовата любов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2098440"/>
            <a:ext cx="9147240" cy="11061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3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И горе с хор небесен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кога във век веков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ще славим с нова песен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Христовата любов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се тази стара повест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ще чу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e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м в Божи храм -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сам Той за Своя почест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ще я разказва та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87840"/>
            <a:ext cx="9144000" cy="7040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колко радост има</a:t>
            </a:r>
            <a:br>
              <a:rPr sz="4800"/>
            </a:b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таз повест най-любим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ткрива на все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Христовата любов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19:05:53Z</dcterms:created>
  <dc:creator>TrifonTrifonow</dc:creator>
  <dc:description/>
  <dc:language>en-US</dc:language>
  <cp:lastModifiedBy>TrifonTrifonow</cp:lastModifiedBy>
  <dcterms:modified xsi:type="dcterms:W3CDTF">2005-11-20T14:51:38Z</dcterms:modified>
  <cp:revision>8</cp:revision>
  <dc:subject/>
  <dc:title>Slide 1</dc:title>
</cp:coreProperties>
</file>